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B71-0258-4066-B2F9-C24CE148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F6B-A07E-4089-A437-C5A857FC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F85-A7ED-434A-A5A8-1D7D0E8D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0AE-13A9-48B9-A63D-9F1E7F9A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88CB0-40ED-476C-91CC-A32159F4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E1149-3247-486E-B7A6-E925482D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C1D01-9872-4D45-8B19-FC85EC7C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55D8E-1972-4F44-9E08-2A691B04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A7760-D9C8-4567-BA4F-3BDAC6A2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07970-7723-4B7E-B43D-A645F272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093ED-6C64-4AA5-9BF3-51C56525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4DC-409A-41CC-BFFD-1459DCFB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CA753-B922-46CD-A33B-93646805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D8B6D-7FB7-40D3-81B4-2A523DDD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514BD-9E76-4DC4-BCF2-C42142B2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B24E9-C021-49AB-A2D1-952DE6EE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2F1FF-5690-4617-AC0A-E8041C8C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D23-F85F-4B0D-A9EA-1F6CE9A5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AD2-9438-4148-ACBF-EF7F8BB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E43-2195-43E1-955C-670BAA54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3E6-B5AD-4164-96BA-C5DD785F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9EA-9C40-4D02-B984-D05D4EF7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55E-5C3C-4696-9B2D-2A20F619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F46-C005-4D74-9479-56A712F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5798-2ADA-414C-914C-4349B54E5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0FCF-91DB-45F9-B216-6744E5AEF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"/>
              </a:rPr>
              <a:t>Brain Gym Academ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erlin Sans FB"/>
              </a:rPr>
              <a:t>Marichu Bolocon-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e 1, Room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ne 2011 to March 20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80880"/>
            <a:ext cx="8153280" cy="617220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96080" y="53341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77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comic"/>
              </a:rPr>
              <a:t>Mathema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sition of O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attern and Compa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Understanding Numer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ub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276720" cy="2973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20652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comic"/>
              </a:rPr>
              <a:t>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art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ving and Non-living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a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comic"/>
              </a:rPr>
              <a:t>REA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sonant S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sonant and Vowel S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l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ong Vowel S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ahoma"/>
              </a:rPr>
              <a:t>Brain Gym Academy will make your Child a Functionally Literate Individual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2:12:05Z</dcterms:created>
  <dc:creator>rusty</dc:creator>
  <dc:description/>
  <dc:language>en-US</dc:language>
  <cp:lastModifiedBy>rusty</cp:lastModifiedBy>
  <dcterms:modified xsi:type="dcterms:W3CDTF">2011-10-03T13:01:25Z</dcterms:modified>
  <cp:revision>5</cp:revision>
  <dc:subject/>
  <dc:title>Brain Gym Academy</dc:title>
</cp:coreProperties>
</file>